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1F2A-D3AB-44FD-862F-5090CE21F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E0AD-86E5-432C-9A05-E2889618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A3DE-3F8B-4FB7-B118-F14356AD2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B13C-1376-40DE-AEFE-E15D2984E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DA29-4080-491C-8645-CA9AA80D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FBE7-0E66-4C26-BA2E-9ECE5465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6426-B2CA-4C37-8BEE-E805DB22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8D2F-B01F-4A02-A99E-11C94EB8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1B85-022A-4DBC-ADCE-AB026906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28A1-814E-426D-882F-B413ECBA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BF30-E4F5-47F6-9A96-0160BC08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964D-629D-4214-B179-D6F228CD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B37A-B1D7-49DC-BA6A-3D040049D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m-volt.com/wp-content/uploads/2007/03/sad-face.jpg&amp;imgrefurl=http://www.gm-volt.com/index.php%3Fs%3Doptimistic&amp;h=250&amp;w=250&amp;sz=26&amp;hl=en&amp;start=5&amp;um=1&amp;tbnid=feYwvmUWG-AyrM:&amp;tbnh=111&amp;tbnw=111&amp;prev=/images%3Fq%3Dsad%2Bface%26um%3D1%26hl%3Den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f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ff"/>
                </a:solidFill>
                <a:latin typeface="Arial"/>
              </a:rPr>
              <a:t>The Cat a Mouse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Brady Myh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5000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181480" y="2514600"/>
            <a:ext cx="2897280" cy="1306440"/>
          </a:xfrm>
          <a:prstGeom prst="leftArrow">
            <a:avLst>
              <a:gd name="adj1" fmla="val 43861"/>
              <a:gd name="adj2" fmla="val 142661"/>
            </a:avLst>
          </a:prstGeom>
          <a:solidFill>
            <a:srgbClr val="000000"/>
          </a:solidFill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886200" y="685440"/>
            <a:ext cx="1695600" cy="2133720"/>
          </a:xfrm>
          <a:prstGeom prst="upArrow">
            <a:avLst>
              <a:gd name="adj1" fmla="val 37454"/>
              <a:gd name="adj2" fmla="val 7296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1600200" y="2438280"/>
            <a:ext cx="2743200" cy="1393920"/>
          </a:xfrm>
          <a:prstGeom prst="leftArrow">
            <a:avLst>
              <a:gd name="adj1" fmla="val 42148"/>
              <a:gd name="adj2" fmla="val 10625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3657600"/>
            <a:ext cx="1523880" cy="2438280"/>
          </a:xfrm>
          <a:prstGeom prst="upArrow">
            <a:avLst>
              <a:gd name="adj1" fmla="val 44787"/>
              <a:gd name="adj2" fmla="val 8781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0.06667 L 1.66667E-006 0.35556 E">
                                      <p:cBhvr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0486 L -0.31666 0.00486 E">
                                      <p:cBhvr>
                                        <p:cTn id="35" dur="5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3.33333E-006 -0.24444 E">
                                      <p:cBhvr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67 -0.00162 L 0.29167 -0.00162 E">
                                      <p:cBhvr>
                                        <p:cTn id="39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1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0486 L 0.02292 -0.09236 L 0.12708 -0.09236 L 0.2 0.00486 L 0.2 0.14352 L 0.12708 0.24097 L 0.02292 0.24097 L -0.05 0.14352 L -0.05 0.00486 Z">
                                      <p:cBhvr>
                                        <p:cTn id="43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0.05648 C 0.00833 -0.03287 -0.04167 -0.11019 -0.10868 -0.11551 C -0.17275 -0.12222 -0.23264 -0.06227 -0.23664 0.02453 C -0.24167 0.1044 -0.19966 0.17916 -0.13959 0.18449 C -0.08473 0.18842 -0.03264 0.13912 -0.02865 0.06458 C -0.02466 -0.00347 -0.05973 -0.06759 -0.11059 -0.07292 C -0.15764 -0.07685 -0.20174 -0.03542 -0.20469 0.02708 C -0.20764 0.0831 -0.17969 0.13773 -0.13768 0.14051 C -0.09966 0.14444 -0.06372 0.1125 -0.06059 0.0618 C -0.05868 0.01643 -0.07969 -0.02755 -0.11268 -0.03009 C -0.14167 -0.03287 -0.17066 -0.0088 -0.17275 0.02986 C -0.17466 0.06319 -0.15973 0.09514 -0.13559 0.09791 C -0.11563 0.10046 -0.09462 0.08588 -0.09358 0.05926 C -0.09167 0.03773 -0.09966 0.01504 -0.11459 0.0125 C -0.12674 0.0125 -0.13872 0.01782 -0.14063 0.03241 C -0.14167 0.0419 -0.13959 0.05116 -0.13368 0.05509 C -0.13073 0.05648 -0.12865 0.05648 -0.1257 0.05509 E">
                                      <p:cBhvr>
                                        <p:cTn id="47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85185E-006 C 0.02813 0.08033 0.09948 0.11713 0.16025 0.07871 C 0.2191 0.04398 0.25087 -0.04653 0.2224 -0.12523 C 0.19896 -0.19768 0.13507 -0.2375 0.08004 -0.20393 C 0.03073 -0.17245 0.00278 -0.09583 0.02587 -0.0287 C 0.0467 0.0338 0.1 0.06759 0.14705 0.04028 C 0.18976 0.01435 0.21337 -0.05023 0.19375 -0.10741 C 0.17657 -0.1581 0.13282 -0.18842 0.09445 -0.16435 C 0.0599 -0.14352 0.03924 -0.09329 0.05486 -0.04583 C 0.06945 -0.00486 0.10313 0.02014 0.13368 0.00093 C 0.16007 -0.01412 0.17709 -0.05347 0.16493 -0.08981 C 0.15434 -0.12037 0.13004 -0.13866 0.10799 -0.12569 C 0.08993 -0.11458 0.07535 -0.08889 0.08507 -0.06481 C 0.09098 -0.04467 0.10608 -0.02986 0.12014 -0.03773 C 0.13073 -0.04444 0.13959 -0.05717 0.13542 -0.07129 C 0.13299 -0.08032 0.12848 -0.08657 0.12136 -0.08704 C 0.11841 -0.08565 0.11667 -0.08403 0.11424 -0.08171 E">
                                      <p:cBhvr>
                                        <p:cTn id="51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07407E-006 C 0.02934 -0.08009 0.00607 -0.17708 -0.054 -0.21666 C -0.11111 -0.25601 -0.18386 -0.23171 -0.21268 -0.15393 C -0.24063 -0.0831 -0.22379 0.00741 -0.16997 0.04375 C -0.12066 0.0757 -0.05851 0.05718 -0.03281 -0.00972 C -0.00938 -0.07013 -0.02309 -0.14722 -0.06823 -0.17847 C -0.11042 -0.20648 -0.16302 -0.1912 -0.18403 -0.13518 C -0.20295 -0.08495 -0.19341 -0.02037 -0.15556 0.00394 C -0.1217 0.02732 -0.07917 0.0169 -0.06146 -0.02847 C -0.04618 -0.06921 -0.0533 -0.12083 -0.08281 -0.14027 C -0.10868 -0.15787 -0.14219 -0.15046 -0.15538 -0.11597 C -0.16684 -0.08634 -0.1625 -0.04907 -0.14115 -0.03402 C -0.12344 -0.02129 -0.09983 -0.02384 -0.09097 -0.04791 C -0.08316 -0.06689 -0.08386 -0.09143 -0.09688 -0.10185 C -0.10799 -0.1081 -0.12066 -0.10926 -0.12656 -0.09699 C -0.13038 -0.08888 -0.13125 -0.07916 -0.12674 -0.07245 C -0.12448 -0.06967 -0.12257 -0.06851 -0.11945 -0.06828 E">
                                      <p:cBhvr>
                                        <p:cTn id="55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50000">
              <a:srgbClr val="000000"/>
            </a:gs>
            <a:gs pos="100000">
              <a:srgbClr val="cc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743200" y="3276720"/>
            <a:ext cx="3048120" cy="289548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838080"/>
            <a:ext cx="7162920" cy="13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You Win!!!!!!!!!</a:t>
            </a:r>
            <a:endParaRPr b="1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7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3333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2362320"/>
            <a:ext cx="4724280" cy="4294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3733920" y="0"/>
            <a:ext cx="192384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lay Agai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7924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4:12:47Z</dcterms:created>
  <dc:creator>CGB</dc:creator>
  <dc:description/>
  <dc:language>en-US</dc:language>
  <cp:lastModifiedBy>CGB</cp:lastModifiedBy>
  <dcterms:modified xsi:type="dcterms:W3CDTF">2008-06-04T14:20:52Z</dcterms:modified>
  <cp:revision>7</cp:revision>
  <dc:subject/>
  <dc:title>The Cat a Mouse Game</dc:title>
</cp:coreProperties>
</file>